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amera.wav" ContentType="audio/x-wav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9CC-45FA-4704-993A-64B175A896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利华教育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精心打造一流新课标资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1B6-1A6E-46A6-84BB-94C62740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651-08C0-4FB8-A764-D0C0FAFF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DFE-0FE5-44CC-9736-1218DBA0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E5E-BA17-44E8-82B1-D4C9223E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03D-33B8-4ED9-B941-4E5240D0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7BE-EFC1-4E29-89C0-B5347E5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CE43-9753-4000-AEF4-FE878B5C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EFC3-55C3-4322-A3EF-639E81A4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60AE-04DF-4D93-BA3B-299D74EB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DDA1-4B68-4733-BF72-507B1AC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72AF-EEBD-452E-A8B8-2DB987B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B69-83D8-4ADE-A6E4-5B7D9357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DDA-28BF-4D12-AA25-6B7410F6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5961-08D8-4FA1-ADFF-E422E705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84A-57D7-4C84-9860-376EB096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B33F-9DAC-4EA0-B0EF-3E8C4EA8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56F-BE3A-4249-908E-EBD7DC7A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2DC-D77E-4FEB-868B-D860A69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E7B-6D37-4926-8C50-2B1F219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AAB-DCB0-4C3F-B636-3AEAEA96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44C-8F67-4470-9FA1-F28CFDB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838-8F6A-41BE-847C-C39DE7E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282-5E96-4CB9-91F3-6E9B6D7D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50E-8C2D-4638-B9EF-F62FD09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7056-AAB8-4C8D-8631-4FA33D8D601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130-6BC3-43E5-B247-F7946E2680E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hyperlink" Target="file:///&#32511;&#21494;&#22312;&#20809;&#19979;&#21046;&#36896;&#26377;&#26426;&#29289;-320x240.Flv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59280" y="2421000"/>
            <a:ext cx="55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彩云中学    柯利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72720" y="76320"/>
            <a:ext cx="552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第四章 绿色植物是生物圈中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         </a:t>
            </a: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有机物的制造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9400" y="3716280"/>
            <a:ext cx="235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Verdana"/>
              </a:rPr>
              <a:t>2012</a:t>
            </a:r>
            <a:r>
              <a:rPr b="1" lang="zh-CN" sz="3200" spc="-1" strike="noStrike">
                <a:solidFill>
                  <a:srgbClr val="ff33cc"/>
                </a:solidFill>
                <a:latin typeface="Verdana"/>
              </a:rPr>
              <a:t>年</a:t>
            </a:r>
            <a:r>
              <a:rPr b="1" lang="zh-CN" sz="3200" spc="-1" strike="noStrike">
                <a:solidFill>
                  <a:srgbClr val="ff33cc"/>
                </a:solidFill>
                <a:latin typeface="Verdana"/>
              </a:rPr>
              <a:t>12</a:t>
            </a:r>
            <a:r>
              <a:rPr b="1" lang="zh-CN" sz="3200" spc="-1" strike="noStrike">
                <a:solidFill>
                  <a:srgbClr val="ff33cc"/>
                </a:solidFill>
                <a:latin typeface="Verdana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28600"/>
            <a:ext cx="83059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首先，先介绍几个知识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（实验原理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组成生物的有机物中，有机物种类主要有以下四种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糖类、蛋白质、核酸、脂质，而在植物当中的糖类则主要是淀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仿宋简体"/>
                <a:ea typeface="方正仿宋简体"/>
              </a:rPr>
              <a:t>每种有机物都有它独特的鉴定方法，比如说：蛋白质用双缩脲试剂，脂肪用苏丹染液等，我们可以用这些试剂来检测它们的存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淀粉的鉴定常用碘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碘液本身是淡黄色，淀粉一旦遇见碘液，就会变成蓝色，所以碘液常用来检验淀粉的存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让我们看看这个实验的学习任务吧（实验目的）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检验绿叶在光下制造的有机物是不是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探究光是不是绿叶制造有机物不可缺少的条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9144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让我们看看这个实验的学习任务吧（实验目的）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检验绿叶在光下制造的有机物是不是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探究光是不是绿叶制造有机物不可缺少的条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9320" y="1143000"/>
            <a:ext cx="822960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经典粗仿黑"/>
              </a:rPr>
              <a:t>让我们带着实验的目的，带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经典粗仿黑"/>
              </a:rPr>
              <a:t>几个小问题，一边思考，一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经典粗仿黑"/>
              </a:rPr>
              <a:t>去看看关于这个实验的视频吧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绿色植物制造的有机物是什么？你通过什么判断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什么要用黑纸片把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叶片的一部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遮盖起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什么要把天竺葵提前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4" action="ppaction://hlinksldjump"/>
              </a:rPr>
              <a:t>暗处理一昼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讨论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3886200" y="3425040"/>
            <a:ext cx="2133720" cy="809280"/>
          </a:xfrm>
          <a:custGeom>
            <a:avLst/>
            <a:gdLst>
              <a:gd name="textAreaLeft" fmla="*/ 202320 w 2133720"/>
              <a:gd name="textAreaRight" fmla="*/ 1931400 w 2133720"/>
              <a:gd name="textAreaTop" fmla="*/ 202320 h 809280"/>
              <a:gd name="textAreaBottom" fmla="*/ 606960 h 809280"/>
            </a:gdLst>
            <a:ahLst/>
            <a:rect l="textAreaLeft" t="textAreaTop" r="textAreaRight" b="textAreaBottom"/>
            <a:pathLst>
              <a:path w="56934" h="21600">
                <a:moveTo>
                  <a:pt x="0" y="0"/>
                </a:moveTo>
                <a:lnTo>
                  <a:pt x="56934" y="0"/>
                </a:lnTo>
                <a:lnTo>
                  <a:pt x="56934" y="21600"/>
                </a:lnTo>
                <a:lnTo>
                  <a:pt x="0" y="21600"/>
                </a:lnTo>
                <a:close/>
              </a:path>
              <a:path fill="lightenLess" w="56934" h="21600">
                <a:moveTo>
                  <a:pt x="0" y="0"/>
                </a:moveTo>
                <a:lnTo>
                  <a:pt x="56934" y="0"/>
                </a:lnTo>
                <a:lnTo>
                  <a:pt x="51534" y="5400"/>
                </a:lnTo>
                <a:lnTo>
                  <a:pt x="5400" y="5400"/>
                </a:lnTo>
                <a:close/>
              </a:path>
              <a:path fill="darken" w="56934" h="21600">
                <a:moveTo>
                  <a:pt x="56934" y="0"/>
                </a:moveTo>
                <a:lnTo>
                  <a:pt x="56934" y="21600"/>
                </a:lnTo>
                <a:lnTo>
                  <a:pt x="51534" y="16200"/>
                </a:lnTo>
                <a:lnTo>
                  <a:pt x="51534" y="5400"/>
                </a:lnTo>
                <a:close/>
              </a:path>
              <a:path fill="darkenLess" w="56934" h="21600">
                <a:moveTo>
                  <a:pt x="5693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51534" y="16200"/>
                </a:lnTo>
                <a:close/>
              </a:path>
              <a:path fill="lighten" w="5693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56934" h="21600">
                <a:moveTo>
                  <a:pt x="24442" y="10800"/>
                </a:moveTo>
                <a:lnTo>
                  <a:pt x="32492" y="6775"/>
                </a:lnTo>
                <a:lnTo>
                  <a:pt x="32492" y="148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绿色植物通过光合作用制造有机物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第一个问题：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绿色植物制造的有机物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600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从实验可以看出，叶片的见光部分遇到碘液变成了蓝色。谁遇碘液会变蓝色？？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19810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淀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0481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说明叶片的见光部分产生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有机物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962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植物的光合作用是不是只能产生淀粉这一种有机物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952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不，主要是淀粉等糖类，一部分糖类在植物体内还会转变成蛋白质、脂质等其他有机物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个问题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为什么要用黑纸片把叶片的一部分遮盖起来 ？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6668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遮盖一部分叶片的原因是</a:t>
            </a:r>
            <a:r>
              <a:rPr b="1" lang="zh-CN" sz="3200" spc="-1" strike="noStrike">
                <a:solidFill>
                  <a:srgbClr val="cc0a38"/>
                </a:solidFill>
                <a:latin typeface="Arial"/>
              </a:rPr>
              <a:t>设置对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看</a:t>
            </a:r>
            <a:r>
              <a:rPr b="1" lang="zh-CN" sz="3200" spc="-1" strike="noStrike">
                <a:solidFill>
                  <a:srgbClr val="cc0a38"/>
                </a:solidFill>
                <a:latin typeface="Arial"/>
              </a:rPr>
              <a:t>光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否是绿色植物制造有机物的必要条件。对照组： 照光部分，    有淀粉的产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实验组： 不照光部分，无淀粉的产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个问题是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什么要把天竺葵提前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暗处理一昼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8954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使叶片中的淀粉全部运走耗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17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实验结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实验可以看出，叶片的见光部分遇到碘液变成了蓝色。实际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淀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遇碘液变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结论一：说明叶片的见光部分产生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机物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24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实验结果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在实验中，叶片未用黑纸片遮盖的部分产生了淀粉，被黑纸片遮盖的部分没有产生淀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448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结论二：说明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光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是绿色植物制造有机物不可缺少的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条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实验结论是什么？</a:t>
            </a:r>
            <a:br>
              <a:rPr sz="4000"/>
            </a:b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（对实验目的进行回答）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绿色植物在光下制造的有机物是淀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8954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光是绿叶制造有机物不可缺少的条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小讨论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本实验中的酒精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133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叶片中含有的叶绿素溶解到酒精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为什么酒精要隔水加热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3434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防止酒精的快速蒸发影响叶绿素溶解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防止酒精燃烧发生危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91440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36520" y="981000"/>
            <a:ext cx="75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隶书"/>
              </a:rPr>
              <a:t>通过前面的学习我们知道，生物与环境是一个统一的整体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隶书"/>
              </a:rPr>
              <a:t>而这个统一的整体就是生态系统。植物、动物、真菌和很多微生物，在生态系统中分别承担着不同的任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43828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而在生态系统中，绿色植物扮演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怎样的角色？属于生态系统中的什么成分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小思考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的同学认为，从植物体上取一片绿叶，按照本节实验指导的第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至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步进行操作，就可以检验绿叶在光下制造的有机物是否为淀粉。你认为他的想法正确吗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66680" y="13716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不正确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362320"/>
            <a:ext cx="7391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，这样做不能确定绿叶中的淀粉是在实验过程中制造的，还是原来贮存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，这样做不能确定绿叶中的淀粉是在光下制造的，还是在黑暗中制造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什么是光合作用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990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光合作用的实质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9718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光合作用意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绿色植物通过光合作用制造的有机物，不仅满足了自身生长、发育、繁殖的需要，而且为生物圈中的其他生物提供了基本的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                   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81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光能转变为化学能，储存在有机物中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52578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334120"/>
            <a:ext cx="83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334120"/>
            <a:ext cx="83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食物来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05160" y="914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光合作用表达式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960" y="1965240"/>
            <a:ext cx="22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Times New Roman"/>
              </a:rPr>
              <a:t>二氧化碳</a:t>
            </a:r>
            <a:r>
              <a:rPr b="0" lang="zh-CN" sz="4000" spc="-1" strike="noStrike">
                <a:solidFill>
                  <a:srgbClr val="3399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3399ff"/>
                </a:solidFill>
                <a:latin typeface="Times New Roman"/>
              </a:rPr>
              <a:t>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236232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13960" y="2041560"/>
            <a:ext cx="27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有机物   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+   </a:t>
            </a:r>
            <a:r>
              <a:rPr b="0" lang="zh-CN" sz="4000" spc="-1" strike="noStrike">
                <a:solidFill>
                  <a:srgbClr val="3333ff"/>
                </a:solidFill>
                <a:latin typeface="Times New Roman"/>
              </a:rPr>
              <a:t>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9512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28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叶绿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9000" y="1554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原料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95920" y="1630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产物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78440" y="2514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储存着能量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800" y="63000"/>
            <a:ext cx="1548720" cy="9943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补充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90600" y="2046240"/>
            <a:ext cx="31640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谢谢大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362320"/>
            <a:ext cx="3809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Arial"/>
              </a:rPr>
              <a:t>再见！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34800" y="1125360"/>
            <a:ext cx="6703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在生态系统中，绿色植物担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着生产者的角色，它们制造的有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物几乎养活了地球上所有的生物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00440" y="3500280"/>
            <a:ext cx="4831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那么，绿色植物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是怎样制造有机物的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6858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绿色植物通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光合作用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制造有机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620120" cy="52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87360" y="838080"/>
            <a:ext cx="690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第一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绿色植物通过光合作用制造有机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91880" y="152280"/>
            <a:ext cx="517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本堂课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学习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阐明绿色植物通过光合作用制造有机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、运用实验的方法检验绿叶在光下制造淀粉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隶书"/>
              </a:rPr>
              <a:t>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057400"/>
            <a:ext cx="5569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本堂课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学习重点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、绿叶在光下制造有机物的实验设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、理解实验设计思路即对单一变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 ——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对照实验的理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4280" y="4495680"/>
            <a:ext cx="29419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隶书"/>
              </a:rPr>
              <a:t>本堂课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学习难点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对照实验的设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62240" y="804960"/>
            <a:ext cx="444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绿色植物是怎样制造有机物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它们制造的有机物是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光照是绿叶制造有机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可缺少的条件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接下来，我们将通过一个实验来探究以上问题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绿叶在光下制造有机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让我们看看这个实验的学习任务吧（实验目的）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检验绿叶在光下制造的有机物是不是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探究光是不是绿叶制造有机物不可缺少的条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9144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让我们看看这个实验的学习任务吧（实验目的）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检验绿叶在光下制造的有机物是不是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探究光是不是绿叶制造有机物不可缺少的条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1143000"/>
            <a:ext cx="822960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经典粗仿黑"/>
              </a:rPr>
              <a:t>让我们看看这个实验要探究些什么吧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经典粗仿黑"/>
              </a:rPr>
              <a:t>实验目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经典粗仿黑"/>
              </a:rPr>
              <a:t>）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检验绿叶在光下制造的有机物是不是淀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探究光是不是绿叶制造有机物不可缺少的条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tpDown</cp:lastModifiedBy>
  <dcterms:modified xsi:type="dcterms:W3CDTF">2012-11-26T08:48:0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